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720263" cy="64801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1F7DE-8723-4A47-AA8A-B66C7A39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4A123-5584-47AE-B414-7B31C729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160BD-6B44-4CDB-9E5F-BA88AB16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698F-F72A-4594-B94D-D699BE03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F190A-2037-4775-AEE6-F1F45AD34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BA3C2-1D85-4023-B1C6-C9EA0EF9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C58C3-C34C-4359-9FC9-27EC8A3A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5B7938-F4F7-4136-B876-99C5F4CA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E4B72-6E2B-450D-9E19-860CA8C2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803847-C07E-45D1-ADBB-5FBDC576C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6C838-51D9-44F1-9731-0911DD925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E4C9-2FDE-4639-9D38-8368BAC4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F9A670-13C8-4DF7-A824-AFCEC2F0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5BA7E-80CB-48C6-84F9-52E4F737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9260E-2B2C-47FB-A59F-90E7828F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042B53-D6A8-40C0-AD38-BA244343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B37269-F53E-415E-B60F-B343E37D1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28193E-6BAF-4F98-80D0-FFF95C3A2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A7BC9B-D365-44D9-BFE6-78693C2FF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333A2-F0F3-4EF7-A77F-C98233A0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16FC8C-EF49-44BA-BDC4-8045054E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CB7B6-F70E-497B-9234-EFBBB9DD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0A7F6-DFD5-4E6D-9AD8-4C37F75E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B0989-D590-4D68-9046-0D7B1620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E8EFE-F5E3-46E0-AAB0-C6EC4D9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06283E-EC25-4401-B604-70243A0F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6DD7E-8CD4-4C88-B83F-CD3338A6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3D5E1F-A3A0-43F1-B379-F76CF1D1C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5A98BD-0EB4-42C5-94D1-B28F06F19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44268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399720" y="1515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564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44268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399720" y="3477960"/>
            <a:ext cx="281592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B578AE-5E57-4971-B8EE-5009E361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34E85-ED75-461B-9B73-1574D7300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64943-C724-4553-9BC4-7787180B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5640" y="258840"/>
            <a:ext cx="8747280" cy="500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E30B-657B-419F-8AA6-51B2A4EB5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F130A-02E4-4FC2-A1D1-91B7F3C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7280" y="3477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43BB3-B854-4507-92D6-E937D173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8564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7280" y="1515960"/>
            <a:ext cx="426780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5640" y="3477960"/>
            <a:ext cx="8745840" cy="179136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B83E6-26E5-43E0-94D0-82B8B36D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324240" y="5904000"/>
            <a:ext cx="30780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968880" y="5904000"/>
            <a:ext cx="226044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8CF0-9D43-4286-AE8C-35ED7DD0D6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485640" y="5904000"/>
            <a:ext cx="22608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85640" y="1515960"/>
            <a:ext cx="8745840" cy="375624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4000"/>
          </a:bodyPr>
          <a:p>
            <a:pPr marL="28800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88000" indent="-28800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42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43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321000" y="590400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96564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7F78-3287-4F7E-9C3A-CD68DD07A9C5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6"/>
          </p:nvPr>
        </p:nvSpPr>
        <p:spPr>
          <a:xfrm>
            <a:off x="485280" y="590724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9715680" cy="6468840"/>
            <a:chOff x="0" y="0"/>
            <a:chExt cx="9715680" cy="6468840"/>
          </a:xfrm>
        </p:grpSpPr>
        <p:grpSp>
          <p:nvGrpSpPr>
            <p:cNvPr id="91" name=""/>
            <p:cNvGrpSpPr/>
            <p:nvPr/>
          </p:nvGrpSpPr>
          <p:grpSpPr>
            <a:xfrm>
              <a:off x="2916360" y="3343680"/>
              <a:ext cx="6792840" cy="3125160"/>
              <a:chOff x="2916360" y="3343680"/>
              <a:chExt cx="6792840" cy="3125160"/>
            </a:xfrm>
          </p:grpSpPr>
          <p:sp>
            <p:nvSpPr>
              <p:cNvPr id="92" name=""/>
              <p:cNvSpPr/>
              <p:nvPr/>
            </p:nvSpPr>
            <p:spPr>
              <a:xfrm>
                <a:off x="2916360" y="3963960"/>
                <a:ext cx="4860720" cy="25030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037280" y="4003920"/>
                <a:ext cx="2122560" cy="12139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894200" y="5016240"/>
                <a:ext cx="4805280" cy="145080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37160" y="3343680"/>
                <a:ext cx="5072040" cy="312516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594560" y="3473640"/>
                <a:ext cx="2103480" cy="8060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8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5605560" y="2010600"/>
              <a:ext cx="3078000" cy="230292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9715680" cy="266148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8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640" y="258840"/>
            <a:ext cx="874728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ftr" idx="7"/>
          </p:nvPr>
        </p:nvSpPr>
        <p:spPr>
          <a:xfrm>
            <a:off x="3321000" y="590724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Num" idx="8"/>
          </p:nvPr>
        </p:nvSpPr>
        <p:spPr>
          <a:xfrm>
            <a:off x="6965640" y="5910120"/>
            <a:ext cx="22669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DejaVu Serif"/>
                <a:ea typeface="Arial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286DB-8EB2-4AD5-B77F-537C72FA0958}" type="slidenum">
              <a:rPr b="0" lang="ru-RU" sz="1200" spc="-1" strike="noStrike">
                <a:solidFill>
                  <a:srgbClr val="ffffff"/>
                </a:solidFill>
                <a:latin typeface="DejaVu Serif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9"/>
          </p:nvPr>
        </p:nvSpPr>
        <p:spPr>
          <a:xfrm>
            <a:off x="485280" y="5904000"/>
            <a:ext cx="2266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8000" y="1628640"/>
            <a:ext cx="95043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МИНИСТЕРСТВО ЗДРАВООХРАНЕНИЯ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Times New Roman"/>
                <a:ea typeface="Arial"/>
              </a:rPr>
              <a:t>ЗАПОРОЖСКОЙ ОБЛАСТИ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БУЗ  «Васильевский центр первичной медико-санитарной помощи»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Главный врач – Тертыця Марина Викторовна 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356000" y="360360"/>
            <a:ext cx="720720" cy="94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755640" y="431640"/>
            <a:ext cx="8137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99ff"/>
                </a:solidFill>
                <a:latin typeface="Times New Roman"/>
              </a:rPr>
              <a:t>Государственное бюджетное учреждение здравоохранения Запорожской области «Васильевский центр первичной медико-санитарной помощи»</a:t>
            </a: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4824360"/>
            <a:ext cx="845964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ctr">
            <a:noAutofit/>
          </a:bodyPr>
          <a:p>
            <a:pPr algn="just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Приглашаем на работу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86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                 </a:t>
            </a:r>
            <a:r>
              <a:rPr b="1" lang="ru-RU" sz="3400" spc="-1" strike="noStrike">
                <a:solidFill>
                  <a:srgbClr val="ffff66"/>
                </a:solidFill>
                <a:latin typeface="Garamond"/>
              </a:rPr>
              <a:t>медицинских специалистов!</a:t>
            </a:r>
            <a:endParaRPr b="0" lang="en-US" sz="3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8280" y="1471680"/>
            <a:ext cx="2278080" cy="17082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208320" y="1865160"/>
            <a:ext cx="3303720" cy="20289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6797520" y="3240000"/>
            <a:ext cx="2519640" cy="1890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925560" y="3473280"/>
            <a:ext cx="1990800" cy="132084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7093080" y="1182600"/>
            <a:ext cx="2390760" cy="1793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052880" y="863640"/>
            <a:ext cx="547380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ff99ff"/>
                </a:solidFill>
                <a:latin typeface="Arial"/>
                <a:ea typeface="Arial"/>
              </a:rPr>
              <a:t>Главный врач ГБУЗ «Васильевский центр первичной медико-санитарной помощи» Тертыця Марина Викторовна 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3600360" y="431640"/>
            <a:ext cx="56167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ff99ff"/>
                </a:solidFill>
                <a:latin typeface="Arial"/>
                <a:ea typeface="Arial"/>
              </a:rPr>
              <a:t>Администрация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0" name=""/>
          <p:cNvSpPr/>
          <p:nvPr/>
        </p:nvSpPr>
        <p:spPr>
          <a:xfrm>
            <a:off x="611280" y="4248000"/>
            <a:ext cx="2808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 u="sng">
                <a:solidFill>
                  <a:srgbClr val="ff99ff"/>
                </a:solidFill>
                <a:uFillTx/>
                <a:latin typeface="Arial"/>
                <a:ea typeface="Arial"/>
              </a:rPr>
              <a:t>ТЕРТЫЦЯ Марина Викторовн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826920" y="853920"/>
            <a:ext cx="2881440" cy="27860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24000" y="3024360"/>
            <a:ext cx="90010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240" bIns="45000" anchor="t">
            <a:noAutofit/>
          </a:bodyPr>
          <a:p>
            <a:pPr algn="just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ГБУЗ «Васильевский центр первичной медико-санитарной помощи» в настоящее время  - многопрофильное крупное медицинское учреждение, образованное в Щёлковском районе в 1963 году, к настоящему моменту пережившее множество реорганизаций и руководителей.  Учреждение является многофункциональной больницей, имеющей стационар мощностью в 400 коек круглосуточного пребывания, оказывающее квалифицированную и специализированную медицинскую помощь населению Щёлковского района. В состав учреждения входят: 2 стационара хирургического профиля (хирургическое отделение, гинекологическое, травматологическое, урологическое, отделение анестезиологии- реанимации, офтальмологическое, оториноларингологическое,  дневной гинекологический стационар), взрослая и детская поликлиники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900760" y="1585800"/>
            <a:ext cx="965160" cy="12859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760920" y="1560600"/>
            <a:ext cx="1823760" cy="1211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7013520" y="23796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187720" y="1490760"/>
            <a:ext cx="1277640" cy="1363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2241720" y="168120"/>
            <a:ext cx="2043000" cy="12351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6"/>
          <a:stretch/>
        </p:blipFill>
        <p:spPr>
          <a:xfrm>
            <a:off x="4740120" y="142920"/>
            <a:ext cx="1943280" cy="1285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7"/>
          <a:stretch/>
        </p:blipFill>
        <p:spPr>
          <a:xfrm>
            <a:off x="187200" y="168120"/>
            <a:ext cx="1764000" cy="2351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7120" y="406440"/>
            <a:ext cx="819324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4840" bIns="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Наши ваканс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1" name=""/>
          <p:cNvSpPr/>
          <p:nvPr/>
        </p:nvSpPr>
        <p:spPr>
          <a:xfrm>
            <a:off x="2470320" y="1920960"/>
            <a:ext cx="5213160" cy="41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804080" y="1015920"/>
            <a:ext cx="1641600" cy="1704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74680" y="1015920"/>
            <a:ext cx="1728720" cy="150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2352600" y="1157400"/>
          <a:ext cx="4682880" cy="4598640"/>
        </p:xfrm>
        <a:graphic>
          <a:graphicData uri="http://schemas.openxmlformats.org/drawingml/2006/table">
            <a:tbl>
              <a:tblPr/>
              <a:tblGrid>
                <a:gridCol w="2836440"/>
                <a:gridCol w="1846440"/>
              </a:tblGrid>
              <a:tr h="771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фессии (специальности), долж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обходимое количество рабо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терапев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общей практи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– специалист (руководители и их заместител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5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статист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ач - педиатр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6T07:50:13Z</dcterms:created>
  <dc:creator>Хмелева Елена Ю.</dc:creator>
  <dc:description/>
  <dc:language>en-US</dc:language>
  <cp:lastModifiedBy>Миронова Екатерина Александровна</cp:lastModifiedBy>
  <dcterms:modified xsi:type="dcterms:W3CDTF">2024-05-06T10:46:39Z</dcterms:modified>
  <cp:revision>116</cp:revision>
  <dc:subject/>
  <dc:title>Государственное бюджетное учреждение здравоохранения Московской области «Мытищинская городская  поликлиника № 5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